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93022-6EE7-4340-A04D-0F06201E51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16273-5BBA-4FAC-9466-44FD435B33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5B923-6908-4360-89F7-DE12C0A248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A201D-00CA-480B-9AB4-94DF4CB5F6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C03FC-84D9-4A12-9E47-D471F05CDD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83398-91E8-4A79-8751-522C84D1AE5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808BE-6F86-49BA-9D1C-12921E6C6E1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7F9D8-FD6A-4348-9F2C-D5389F251ED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37457-4E42-461C-A3A8-5E389104BE2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EEBB5-4E79-47BC-A558-D826AE773E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FA8EC-9369-4B38-99A1-53002A3B70B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3BC8C-30FC-436C-A878-8BBC15BCB1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58409-26BA-4D9C-9C48-B0A48C77E1E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BE411-D030-46C6-B680-5BC1248BD1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30B37-6099-4C6D-A857-E36123813D1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AA033-A285-4F00-9C5F-3DC2E869E41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D23F1-964A-43FB-B9A6-58F06B5A190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A256A-013E-4897-87D0-CE3E739B47C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D2869-6AB7-4F3B-9570-1ED6A4D4952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1A7E1-A2D2-4B27-97CF-4FC23F0760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732AD-D22D-48ED-977D-B61AF28E58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4639D-58F6-41FF-894F-223128FFDF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56C13-B30D-46AC-85E3-CBB8045EB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2DF99-3019-4EF4-B5AB-4221BD9193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500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1500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136520" indent="-40932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136520" indent="-40932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2BCA-EDBA-4952-9E1F-AF2DF4BEEDBA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90720" y="634032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78560" y="28404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82600" y="6548400"/>
            <a:ext cx="6894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1E46-9902-4A8F-AE66-2650A0886E4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90720" y="64008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935240"/>
            <a:ext cx="876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74840" y="2155680"/>
            <a:ext cx="8254800" cy="2541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84200" y="65484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visualranking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0" y="5460480"/>
            <a:ext cx="87631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c00"/>
                </a:solidFill>
                <a:latin typeface="Verdana"/>
              </a:rPr>
              <a:t>Thinking with Technology Cours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cae1"/>
                </a:solidFill>
                <a:latin typeface="Verdana"/>
              </a:rPr>
              <a:t>Module 6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2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Times New Roman"/>
              </a:rPr>
              <a:t>Planning Your Project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 Planning Your Use of Visual Ranking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6.10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pen the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nit Plan Templ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to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s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ject Tit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ject Descrip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mp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R, use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ject Idea document available in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Thinking Tools, Visual Ranking Tool Resources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lder on the Curriculum Resource C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3: Creating a Practice Lis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6.10–6.1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rainstorm a list of items to ran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A60A4-44AC-472B-9668-CD48EE252C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3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tting up a Visual Ranking Projec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lvl="1" marL="3747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747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reating a Visual Ranking Project from an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xisting Projec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6.12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74760" indent="-3733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pen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rom your Favorite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747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visualrank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74760" indent="-3733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 startAt="2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pen and copy an appropriate projec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74760" indent="-3733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 startAt="2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ke any changes you would like to the description, prompt, or lis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74760" indent="-3733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 startAt="2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ave the chang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74760" indent="-3733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 startAt="2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py the project details into your Unit Pla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747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729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2292B-892D-46CE-A3F7-F91F3E486A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3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2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tting up a Visual Ranking Project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49280" y="1676160"/>
            <a:ext cx="8237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 Creating a New Visual Ranking Project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6.13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t up a new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project in the Teacher Workspa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ll in the requested information about your projec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ubmit the projec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BF068-61EB-4E7B-A481-97355B6656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3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tting up a Visual Ranking Project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37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3: Creating Team IDs with the Project Wizard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6.14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3720" indent="-2422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eate new teams using the Project Wizar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3720" indent="-2422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cord team IDs and passwor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3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3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4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reating Specialized Student Teams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6.15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3720" indent="-2422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 to the Manage Project Teams page for your projec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3720" indent="-2422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a new student team with a unique team ID that identifies the team’s perspecti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3720" indent="-2422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ype a unique password for the tea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3720" indent="-2422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ubmit the team inform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3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3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5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cording Your Team ID Information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6.15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3720" indent="-2422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cord your login inform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34B0C-CFAF-412B-AB5D-2CB8BFE0D3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4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rying Out Your Visual Ranking Idea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 Creating a Practice Ranking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– Module 6.16–6.18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ork with another teacher or tea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st your concepts by ranking each other’s lis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actice discussions and questions you would ask your stude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witch and rank the other teacher’s or team’s li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scuss your ranking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D6154-350A-4035-9E92-654CB92EC8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4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2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rying Out Your Visual Ranking Idea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 Assessing Your Practice Ranking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– Module 6.19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ork with the other tea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 Visual Ranking Project Reflection Checklist to guide your discuss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3: Editing Your Projec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6.2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pen the project name you want to ed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or edit student team inform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F1A39-1EBF-42AC-B299-1355E1239A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4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rying Out Your Visual Ranking Idea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37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4: Reviewing Student Work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6.20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a comment to a student rank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how Report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op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5: Deleting a Projec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6.2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lete a project in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Manage Projects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C74A8-81CD-4E86-9278-9FF4B0EFAF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2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5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evisiting Your Unit Pla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375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nderstanding Best Classroom Practic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6.21–6.24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5e647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following items as you pla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orking in tea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tting Up and Implementing a Projec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ing Ranking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flecting on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ing Multiple Methods of Assessment throughout the Projec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12BA0-6FA3-4D47-BF38-07B8233709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Module 6: Considering the Visual Ranking Tool for Your Unit</a:t>
            </a:r>
            <a:br>
              <a:rPr sz="1000"/>
            </a:br>
            <a:br>
              <a:rPr sz="10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Activity 5</a:t>
            </a:r>
            <a:br>
              <a:rPr sz="22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rying Out Your Visual Ranking Idea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25600" y="15235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 Revising Your Unit Pla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– Module 6.25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se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Project Name, Project Description, Project Prompt, and Sorting List, if need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se the Standards, Learning Objectives, and Curriculum-Framing Questions, if necessar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the Assessment Plan section, add your ideas for how you would assess the learning throughout the un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se the Assessment Timeline, as need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raft the Procedu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raft or outline the Unit Summar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31E04-9004-41C3-8740-62DE7C8946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6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haring Your Result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– Module 6.26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iscuss your experience with the 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Visual Ranking Tool: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d you try out an idea for your main unit or for a different project idea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sidering your test results, do you think you will keep this tool in your unit plan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do you see the use of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 Tool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itting in with the objectives and standards you are trying to target, and your overall plan for your unit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will the use of this tool help students meet those need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questions do you still have about this project’s design, implementation, or assessment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c00"/>
                </a:solidFill>
                <a:latin typeface="Verdana"/>
              </a:rPr>
              <a:t>[If using a wiki, enter the URL and directions here]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A98AF-F9B6-4205-B56B-571BE2EE6D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Where We Were 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375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1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rgeting Thinking in the Classroom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2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signing Standards-Based Project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3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ating Curriculum-Framing Questions to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upport Thinking Skill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4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lanning Student-Centered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5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sidering the Visual Ranking Tool for Your Uni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scuss best uses of the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Visual Ranking To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e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Visual Ranking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 a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Questions?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0B69D-1F79-4F8E-92FB-E86384BF19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6: Considering the Visual Ranking Tool for Your Unit</a:t>
            </a:r>
            <a:br>
              <a:rPr sz="1400"/>
            </a:br>
            <a:br>
              <a:rPr sz="12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Summary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6.29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5760" y="1371600"/>
          <a:ext cx="8237520" cy="3352320"/>
        </p:xfrm>
        <a:graphic>
          <a:graphicData uri="http://schemas.openxmlformats.org/drawingml/2006/table">
            <a:tbl>
              <a:tblPr/>
              <a:tblGrid>
                <a:gridCol w="8237520"/>
              </a:tblGrid>
              <a:tr h="44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Module 6 Key Poi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29098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3160" indent="-17172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173160" indent="-17172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isual Ranking Tool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helps to develop students’ collaboration, cooperation, and persuasion skills, as well as their ability to analyze, evaluate, and prioritize information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173160" indent="-17172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isual Ranking Tool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provides opportunities to extend the learning community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173160" indent="-17172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 team’s verbal and written explanations for a ranking may be useful to determine the depth of their understanding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6CB93-CF55-4BEE-9EC6-6329D047B6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Next Session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5760" y="106668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7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Using the Seeing Reason Tool to Target Thinking Skill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a unit that integrates the use of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Reason T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present causal relationships visuall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best uses of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Reas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and discuss ideas for incorporating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Reason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o your un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velop and share a project idea that uses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Reas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t up a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Reason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ject onlin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7149A-CB69-4C39-BD7F-DB53E8842B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7246B-B48A-4C73-83E1-706EE9CDA1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Where We Are 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6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onsidering the Visual Ranking Tool for Your Uni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ry out a project idea using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 T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ate, share, and reflect on a practice rank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se your Unit Pl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your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experien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D40E5-54A0-4FF7-8C7E-FA30448AE6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Where We Are Going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80880" y="1371600"/>
          <a:ext cx="8237520" cy="3376440"/>
        </p:xfrm>
        <a:graphic>
          <a:graphicData uri="http://schemas.openxmlformats.org/drawingml/2006/table">
            <a:tbl>
              <a:tblPr/>
              <a:tblGrid>
                <a:gridCol w="1830600"/>
                <a:gridCol w="6406920"/>
              </a:tblGrid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7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sing the Seeing Reason Tool to Target Thinking Skil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8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idering the Seeing Reason Tool for Your U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9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sing the Showing Evidence Tool to Target Thinking Skil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10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idering the Showing Evidence Tool for Your U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11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leting Your U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2EC03-247A-4A19-B2B2-EE651A0F96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6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onsidering the Visual Ranking Tool for Your Uni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67080" y="1752120"/>
            <a:ext cx="46101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dule Objectiv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ry out project ideas that incorporates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o your uni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ate, share, and reflect on a practice ranking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se your Unit Plan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your experience with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4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014720" cy="487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327D0-D7CE-4CEF-AC83-6576105C2F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1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arifying Project Ideas for Using Visual Ranking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375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 Reviewing the Needs of Your Uni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6.02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pen your Unit Pl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your “Habits of Learning Taxonomy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standards you identified as ones that could possibly benefit from the use of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 T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dentify or consider new objectives that could be supported by the use of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 T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45720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ote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If you do not believ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would be a good fit for your unit, you will have the opportunity to try out an idea for a different unit during this modu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87140-D16C-4573-8404-5E898DCD1D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1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arifying Project Ideas for Using Visual Ranking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523880"/>
            <a:ext cx="8229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Viewing Sample Project Descriptions and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mpts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6.02–6.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buClr>
                <a:srgbClr val="ffffff"/>
              </a:buClr>
              <a:buFont typeface="Verdana"/>
              <a:buChar char="•"/>
              <a:tabLst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project idea descri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buClr>
                <a:srgbClr val="ffffff"/>
              </a:buClr>
              <a:buFont typeface="Verdana"/>
              <a:buChar char="•"/>
              <a:tabLst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sider tips for creating a promp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99960">
              <a:lnSpc>
                <a:spcPct val="100000"/>
              </a:lnSpc>
              <a:spcAft>
                <a:spcPts val="1125"/>
              </a:spcAft>
              <a:buClr>
                <a:srgbClr val="ffffff"/>
              </a:buClr>
              <a:buFont typeface="Verdana"/>
              <a:buChar char="–"/>
              <a:tabLst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clude the criteria for sorting, unless the criteria is team-specif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99960">
              <a:lnSpc>
                <a:spcPct val="100000"/>
              </a:lnSpc>
              <a:spcAft>
                <a:spcPts val="1125"/>
              </a:spcAft>
              <a:buClr>
                <a:srgbClr val="ffffff"/>
              </a:buClr>
              <a:buFont typeface="Verdana"/>
              <a:buChar char="–"/>
              <a:tabLst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arify that they are sorting the entire list, not just picking the b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99960">
              <a:lnSpc>
                <a:spcPct val="100000"/>
              </a:lnSpc>
              <a:spcAft>
                <a:spcPts val="1125"/>
              </a:spcAft>
              <a:buClr>
                <a:srgbClr val="ffffff"/>
              </a:buClr>
              <a:buFont typeface="Verdana"/>
              <a:buChar char="–"/>
              <a:tabLst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arify meaning of qualifiers, such as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impact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 significanc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 b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FA1A1-4CAE-4A82-8CEE-B5F9F89164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1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arifying Project Ideas for Using Visual Ranking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371240"/>
            <a:ext cx="4041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1523880"/>
            <a:ext cx="853452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3: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haring Your Idea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6.0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are your ideas for a project incorporating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 T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vide feedback on ways to target higher-order thinking 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tabLst>
                <a:tab algn="l" pos="0"/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0" lang="en-US" sz="2000" spc="-1" strike="noStrike">
                <a:solidFill>
                  <a:srgbClr val="ff5c00"/>
                </a:solidFill>
                <a:latin typeface="Verdana"/>
              </a:rPr>
              <a:t>[If using a wiki, enter the URL and directions here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6B2CD-6D74-40AE-9285-C221E67A5A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2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Times New Roman"/>
              </a:rPr>
              <a:t>Planning Your Projec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reating Your Own Project Description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nd Promp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6.08–6.09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Your Curriculum-Framing Questions in your Unit Pla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Your Project Priorities on pages 2.16–2.18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ject Reflection Checklist on page 5.19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raft your project description and promp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ote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If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 Tool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use is not appropriate for your unit, use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ject Idea document available in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Thinking Tools, Visual Ranking Tool Resources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lder on the Curriculum Resource C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B4809-9FCE-40F3-9197-088E84662E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01:49:56Z</dcterms:created>
  <dc:creator>Judi Yost</dc:creator>
  <dc:description/>
  <dc:language>en-US</dc:language>
  <cp:lastModifiedBy>mjmillhX</cp:lastModifiedBy>
  <dcterms:modified xsi:type="dcterms:W3CDTF">2008-03-31T23:48:07Z</dcterms:modified>
  <cp:revision>884</cp:revision>
  <dc:subject/>
  <dc:title>Slide 1</dc:title>
</cp:coreProperties>
</file>